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05C1-4E9A-4B06-8419-5FF53213C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E870-A7E3-4A4A-BE72-1DC15B54D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B023-11E0-4CDC-979E-BBBC50FF7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BDD7-4621-4DD6-A349-CEF5CB66E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C720F-1F41-41A2-A015-43B42A0CA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A11E0-9CBE-44D7-A519-6D1274727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08ED3-37F9-46AB-B990-1A161F61C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BDA9D-F58C-4899-9362-992947770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99B47-7728-4E45-9829-CD9506AD8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FE5D6-DC16-4D8C-9DD9-04D2A9E3C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815D1-5015-4FFE-A045-4FFD6C328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076B-8A1B-404F-B06C-87795B1E0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AFE48-0C94-48F2-AB1F-7A769696E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F8B5D-31A3-4B69-9132-D91C15E8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A54C8-8D5A-42C6-A1E3-B5DCDC0B8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14E0B-ABF7-482F-B2B8-0B97E135D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CB588-1319-40AE-B2C5-2C987A2AD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E9A6-1947-4954-98BF-DC2F75FCB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F88C-E6BF-4CA2-B1DF-9BBEAF080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C421-F6C1-4DAD-B29D-F8618A953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F8B1-3B88-492C-B903-75F4030CA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23D0-9073-409A-A751-9AE8D304F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9660-94F2-4180-BD04-B8B43962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D822-96F2-4E53-BB53-14A68C6B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31A52-175E-4E14-85C9-EBADD892726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5BD0A-B2AA-4345-8AE2-1D3E36B2D36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copyright.ogve/fls/fl102.html" TargetMode="External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Digital Citizenship</a:t>
            </a:r>
            <a:br>
              <a:rPr sz="62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a good digital citizen in the 21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centur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arrie Brow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niversity of West Alabam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echnology and Educ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n can copyright be flexib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en material is in the public domai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en author has granted permiss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en there is a legal excep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en it is covered under fair use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fair us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air use allows portions of a copyrighted work to be used without the author’s permission for specific purpose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 specific purposes include “criticism, comment, news reporting, teaching, scholarship, or research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n can fair use occu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 purpose must be clear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 nature of the work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 amount of the work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 effect of the marketabilit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lagiarism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22860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523880" y="2057400"/>
            <a:ext cx="611532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lagiarism Define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o steal or pass off as one’s ow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o use without crediting the sourc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o commit litary thef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o present as new and original an idea or product derived form an existing sourc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ays NOT to Plagiariz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ite everything!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cknowledge that material is borrowed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Provide audience with a source to gain more knowledge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afety on the Web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514600" y="1905120"/>
            <a:ext cx="391968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afety on the Web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hildren's Online Privacy Protection Act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reated to keep kids safe on the interne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signed to keep kids private information priva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rent must know if any private information is given out about child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afety Precaut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any internet providers have parental control options to block certain material from the interne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ome providers have a program that can monitor what kids or any users are doing online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 SAF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any sites have cookies or tracking device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se make it possible to track certain information about users such as name, address, emails, and shopping preferences. 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Know where you are at online!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Times New Roman"/>
              </a:rPr>
              <a:t>5 Keys to Being a Good Digital Citizen</a:t>
            </a:r>
            <a:endParaRPr b="0" lang="en-US" sz="3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tiquett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pyright and Fair Us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Plagiarism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afety on the Web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afety on your Compute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afety on the Comput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819520" y="1752480"/>
            <a:ext cx="32432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9 Safety Tips for the Computer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0400" indent="-590400">
              <a:spcBef>
                <a:spcPts val="774"/>
              </a:spcBef>
              <a:buClr>
                <a:srgbClr val="99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et an antivirus software and keep it up to dat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spcBef>
                <a:spcPts val="774"/>
              </a:spcBef>
              <a:buClr>
                <a:srgbClr val="99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stall security patch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spcBef>
                <a:spcPts val="774"/>
              </a:spcBef>
              <a:buClr>
                <a:srgbClr val="99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a firewal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spcBef>
                <a:spcPts val="774"/>
              </a:spcBef>
              <a:buClr>
                <a:srgbClr val="99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ure your browse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9 Safety Tips for the Computer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0400" indent="-590400">
              <a:spcBef>
                <a:spcPts val="774"/>
              </a:spcBef>
              <a:buClr>
                <a:srgbClr val="990000"/>
              </a:buClr>
              <a:buSzPct val="75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ake control of your emai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spcBef>
                <a:spcPts val="774"/>
              </a:spcBef>
              <a:buClr>
                <a:srgbClr val="990000"/>
              </a:buClr>
              <a:buSzPct val="75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reat IM suspiciousl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spcBef>
                <a:spcPts val="774"/>
              </a:spcBef>
              <a:buClr>
                <a:srgbClr val="990000"/>
              </a:buClr>
              <a:buSzPct val="75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void file sharing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spcBef>
                <a:spcPts val="774"/>
              </a:spcBef>
              <a:buClr>
                <a:srgbClr val="990000"/>
              </a:buClr>
              <a:buSzPct val="75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Keep alert of internet scam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spcBef>
                <a:spcPts val="774"/>
              </a:spcBef>
              <a:buClr>
                <a:srgbClr val="990000"/>
              </a:buClr>
              <a:buSzPct val="75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Don’t file victim to virus hoax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good digital citizen in the 21th Centur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tiquett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pyright and Fair Us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Plagiarism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afety on the Web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afety on the Compute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i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999900"/>
                </a:solidFill>
                <a:uFillTx/>
                <a:latin typeface="Arial"/>
                <a:hlinkClick r:id="rId1"/>
              </a:rPr>
              <a:t>http://www.copyright.ogve/fls/fl102.htm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ttp://www.ccsj.edu/blackboard/BB%20copyright_fair_use.pdf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ttp://home.earthlink.net/~cnew/research.htm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ttp://www.livinginternet.com/i/ia_ng.htm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i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ttp://www.ccmostwanted.com/topics/netiquette.ht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ttp://www.albion.com/netiquett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ttp://kidshealth.org/parent/positive/family/net_safety.html#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ttp://www.plagiarism.org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ttp://www.antivirus.about.com/od/security/tips/a/safetytips.htm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etiquet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666880" y="2286000"/>
            <a:ext cx="374328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etiquette – Spelled RESPEC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et etiquett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 set of practices to make internet experience positiv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urtesy in communica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etiquette - Basic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elp new explorer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search before asking ???????????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member EMO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People aren’t organizat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spec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void Flame War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etiquet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Book written by Viriginia Shea entitled </a:t>
            </a:r>
            <a:r>
              <a:rPr b="0" lang="en-US" sz="3100" spc="-1" strike="noStrike" u="sng">
                <a:solidFill>
                  <a:srgbClr val="ffffff"/>
                </a:solidFill>
                <a:uFillTx/>
                <a:latin typeface="Arial"/>
              </a:rPr>
              <a:t>Netiquett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top netiquette rule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member the huma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here to same standards online as in real lif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Know where you are in cyberspa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spect people’s ti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ke yourself look good onlin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etiquette – con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Book written by Viriginia Shea entitled </a:t>
            </a:r>
            <a:r>
              <a:rPr b="0" lang="en-US" sz="3100" spc="-1" strike="noStrike" u="sng">
                <a:solidFill>
                  <a:srgbClr val="ffffff"/>
                </a:solidFill>
                <a:uFillTx/>
                <a:latin typeface="Arial"/>
              </a:rPr>
              <a:t>Netiquett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top netiquette rule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hare knowledg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Keep flame wars under contro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spect other’s privac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on’t abuse pow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e forgiving of other’s mistak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pyright and Fair Us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048120" y="1981080"/>
            <a:ext cx="34192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Copyrigh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 right to reproduce or authorize others to reproduce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protects certain kinds of “original works of authorship” published or unpublish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opics include literary, musical, dramatic, choreographed, pictorial, motion, soun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02:52:40Z</dcterms:created>
  <dc:creator> </dc:creator>
  <dc:description/>
  <dc:language>en-US</dc:language>
  <cp:lastModifiedBy> </cp:lastModifiedBy>
  <dcterms:modified xsi:type="dcterms:W3CDTF">2011-04-19T03:37:25Z</dcterms:modified>
  <cp:revision>2</cp:revision>
  <dc:subject/>
  <dc:title>Digital Citizenship What is a good digital citizen in the 21st century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